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9C9-F788-4908-8B18-79514E41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167-0F91-48E6-95CF-22CA61ED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B67-A136-49F4-9C80-7B4467B9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BE3-B124-40CB-9306-84003935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9D7-9F37-4FC2-9315-AD5CF7AB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528-6D6F-438A-A659-E1EDCA14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6E2-E70F-428A-A516-8C6466B9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57C-677D-46F2-BECE-3C419D12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329-0D56-4D80-85FB-50EF05D0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1E9-637E-4AF1-B0C4-A750C306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776A-3BB1-45AD-9626-7C8BDF26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1F7-764D-4905-A256-468615CD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4EF8-FD3E-4829-A07B-6216144FC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mpactednurse.com/?p=2144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lys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nocturnaldialysis.org/LOWBP.LRG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w-functioning kidneys, dialysis machine can filter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is hemodi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2687760"/>
            <a:ext cx="380988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lys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metrohealth.org/body.cfm?id=145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move toxic wastes and maintain solute balance, but cannot perform other functions of kidney (hormone release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83080" y="1981080"/>
            <a:ext cx="233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Transplant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mrbobgardner.blogspot.com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nalys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next slide from: http://lifeinthefastlane.com/education/investigations-tests/urinalysis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detect many metabolic and kidney disorders as well as urinary tract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e can be assessed using a dipstick or at a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Test Dip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9880" y="1981080"/>
            <a:ext cx="512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re information on how to interpret results of urinalysis dipsticks, go to “Urinalysis for Dummies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mpactednurse.com/?p=2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1 - body cannot produce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2 - cells fail to use insulin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ational - hormones of pregnancy interfere with action of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alysis would show high levels of glucose (and greater volumes of ur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Insipid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d by failure to produce ADH or lack of cell response to 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ADH means that less water is reabsor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greater volumes of dilute 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ght’s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nephritis, an inflammation of the neph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ype causes destruction of glomerular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alysis shows large amounts of protein in urine (and greater volu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one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healthcareguide4u.blogspot.com/2009/05/kidney-stones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precipitation of minerals, can be alkaline or aci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pain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603520"/>
            <a:ext cx="38098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ones - Treatment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s from: http://www.freeclinicproject.org/the-natural-way-of-passing-kidney-st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otripsy (shock-wave thera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eteroscopy (and placement of stent or removal of st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1:17:53Z</dcterms:created>
  <dc:creator>rubina khan</dc:creator>
  <dc:description/>
  <dc:language>en-US</dc:language>
  <cp:lastModifiedBy>rubina khan</cp:lastModifiedBy>
  <dcterms:modified xsi:type="dcterms:W3CDTF">2011-12-12T02:31:09Z</dcterms:modified>
  <cp:revision>165</cp:revision>
  <dc:subject/>
  <dc:title>Formation of Urine</dc:title>
</cp:coreProperties>
</file>